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11.png" ContentType="image/pn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056E-D122-47BF-8CF7-0F682239D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4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64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0881-EFDF-4C6B-AD79-D956E51C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520" y="419220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94E7-7909-4E0B-BB18-8C796598F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198072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6400" y="198072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19220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6400" y="419220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3390-785A-4828-AFB5-4059E214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448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1061-F4B3-4B65-9696-8CFA74B3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44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5527-C06D-46FC-A8A2-BE17CFE5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0C7F-598A-4EF6-BB1A-87A99995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D469-9515-48EB-B070-55B0BE04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4480" cy="66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8BED-BA29-41BE-9763-2BF3F589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E61B-4DE2-45D2-B0E0-1831F42D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520" y="419220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989C-53EA-4579-BBDA-C6BFD4B6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64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9518-5194-4851-9EF6-D61B0DB0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44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DB882-F51F-4614-860F-A0A28267D1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1828800"/>
            <a:ext cx="4647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AISM Worksh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Floating a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81480" y="60958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hort draft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2"/>
          <a:stretch/>
        </p:blipFill>
        <p:spPr>
          <a:xfrm>
            <a:off x="3962520" y="5334120"/>
            <a:ext cx="1110960" cy="1218960"/>
          </a:xfrm>
          <a:prstGeom prst="rect">
            <a:avLst/>
          </a:prstGeom>
          <a:ln w="0">
            <a:noFill/>
          </a:ln>
        </p:spPr>
      </p:pic>
      <p:pic>
        <p:nvPicPr>
          <p:cNvPr id="44" name="logo_cetmef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93960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zone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5616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057400" y="2590920"/>
            <a:ext cx="53352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2057400"/>
            <a:ext cx="53352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85800" y="1981080"/>
            <a:ext cx="1295280" cy="914400"/>
            <a:chOff x="685800" y="1981080"/>
            <a:chExt cx="1295280" cy="914400"/>
          </a:xfrm>
        </p:grpSpPr>
        <p:sp>
          <p:nvSpPr>
            <p:cNvPr id="63" name=""/>
            <p:cNvSpPr/>
            <p:nvPr/>
          </p:nvSpPr>
          <p:spPr>
            <a:xfrm>
              <a:off x="1752480" y="1981080"/>
              <a:ext cx="228600" cy="2286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" y="2438280"/>
              <a:ext cx="228600" cy="2286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38080" y="2666880"/>
              <a:ext cx="228600" cy="2286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276720" y="6248520"/>
            <a:ext cx="36576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rest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2880" y="6019920"/>
            <a:ext cx="143964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rtholittorale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subdi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4970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-3240" y="5334120"/>
            <a:ext cx="189072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HOM/ contrat E65/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5638680"/>
            <a:ext cx="28350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rest: por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2438280"/>
            <a:ext cx="1600200" cy="160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343400" y="3429000"/>
            <a:ext cx="1447920" cy="990720"/>
            <a:chOff x="4343400" y="3429000"/>
            <a:chExt cx="1447920" cy="990720"/>
          </a:xfrm>
        </p:grpSpPr>
        <p:sp>
          <p:nvSpPr>
            <p:cNvPr id="73" name=""/>
            <p:cNvSpPr/>
            <p:nvPr/>
          </p:nvSpPr>
          <p:spPr>
            <a:xfrm>
              <a:off x="4952880" y="3809880"/>
              <a:ext cx="533520" cy="6098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43400" y="3581280"/>
              <a:ext cx="68580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48320" y="3429000"/>
              <a:ext cx="114300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Arial"/>
                </a:rPr>
                <a:t>200 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828800" y="3581280"/>
            <a:ext cx="5486400" cy="2928960"/>
          </a:xfrm>
          <a:prstGeom prst="rect">
            <a:avLst/>
          </a:prstGeom>
          <a:ln w="0">
            <a:noFill/>
          </a:ln>
        </p:spPr>
      </p:pic>
      <p:pic>
        <p:nvPicPr>
          <p:cNvPr id="77" name="Vue_gene_Subdi_cle531cb6" descr=""/>
          <p:cNvPicPr/>
          <p:nvPr/>
        </p:nvPicPr>
        <p:blipFill>
          <a:blip r:embed="rId3"/>
          <a:stretch/>
        </p:blipFill>
        <p:spPr>
          <a:xfrm>
            <a:off x="762120" y="152280"/>
            <a:ext cx="7848360" cy="3610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60640" y="2268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ance" descr=""/>
          <p:cNvPicPr/>
          <p:nvPr/>
        </p:nvPicPr>
        <p:blipFill>
          <a:blip r:embed="rId2"/>
          <a:stretch/>
        </p:blipFill>
        <p:spPr>
          <a:xfrm>
            <a:off x="423720" y="304920"/>
            <a:ext cx="82947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zone" descr=""/>
          <p:cNvPicPr/>
          <p:nvPr/>
        </p:nvPicPr>
        <p:blipFill>
          <a:blip r:embed="rId2"/>
          <a:stretch/>
        </p:blipFill>
        <p:spPr>
          <a:xfrm>
            <a:off x="-861840" y="271440"/>
            <a:ext cx="10867680" cy="6315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3240" y="6622920"/>
            <a:ext cx="189072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HOM/ contrat E65/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838080"/>
            <a:ext cx="79250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ac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lenary (1 ro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orkgroup (4 rooms conference or round table configur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ifi equipments, projectors and so 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ossibility to have catering there and coffee breaks t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alf a day for an exhibition on port faciliti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alle%201%20sièges%20rouges%202" descr=""/>
          <p:cNvPicPr/>
          <p:nvPr/>
        </p:nvPicPr>
        <p:blipFill>
          <a:blip r:embed="rId2"/>
          <a:stretch/>
        </p:blipFill>
        <p:spPr>
          <a:xfrm>
            <a:off x="12600" y="825480"/>
            <a:ext cx="911880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80" y="6019920"/>
            <a:ext cx="63936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ALLE%20N2" descr=""/>
          <p:cNvPicPr/>
          <p:nvPr/>
        </p:nvPicPr>
        <p:blipFill>
          <a:blip r:embed="rId2"/>
          <a:stretch/>
        </p:blipFill>
        <p:spPr>
          <a:xfrm>
            <a:off x="1138320" y="1476360"/>
            <a:ext cx="6867360" cy="3905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7760" y="5410080"/>
            <a:ext cx="63936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alons%20BCD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8763120" cy="4400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3360" y="5791320"/>
            <a:ext cx="63936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62840" y="5791320"/>
            <a:ext cx="63936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Brest_Quartz1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784872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53352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t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 hotels used for conferences (5 minutes walk from workshop facilit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ail (5 minutes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irport (bus or Tax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g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ty bus or regular bu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nner on a boat in roadstead where some plastic buoys are moo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st day, Trip to Ushant island (atons museum and 6 lighthouses on the island or around the Islan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PB</cp:lastModifiedBy>
  <dcterms:modified xsi:type="dcterms:W3CDTF">2007-04-17T09:48:58Z</dcterms:modified>
  <cp:revision>15</cp:revision>
  <dc:subject/>
  <dc:title>PowerPoint Presentation</dc:title>
</cp:coreProperties>
</file>